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131-14D2-4C2D-BB82-03F790B5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953-B45F-4B9A-9421-BB84E5F0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31A-6F2B-4371-9796-24F774F3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569-7B6A-4315-ACDA-6E446E72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4427-819F-4882-A64B-CE0479D1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6B45-2648-4CFB-BAC2-83F070F8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3716-1554-4DEA-A800-D666B40E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37F4-4569-4A81-8B1F-C47765AA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E510-C64C-49E2-B877-E0E2679C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2053-9725-40D7-BFB2-F8B11542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981C-8364-4620-8999-7C3C31E3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6E0-9E63-43A2-90AE-8C8F648B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0765-1DAC-4A67-8EF1-9DEA8133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052F-5F7B-4574-B5A4-3A651786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B5C6-98BA-43C9-A276-5F95273D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83F8-6392-477E-82E2-C5114196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560A-4F93-423C-8DC1-1F7F1076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9FA-9F70-44AD-90CE-417B429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944-9FD8-4DBB-BE3D-C2B8F2CA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A9C-5943-4BF4-8D03-D418D85C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E76-212A-4644-8B8E-48098629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4C1-0767-4E03-A46C-5C30E4F2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0AC-972E-46FA-BFE5-4327A63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52A-5120-4D34-86C1-360FBEA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D99C-A091-46AE-B6F5-B7CEE11B3A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459-1312-4E12-9056-D7CF0D1037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Divided Kingd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14,15; 2 Chron.13 – 15: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1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wo Main P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ign of Jeroboam I, and his death. 13:1-14:2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under Rehoboam, Abijah,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th and Sou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–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cked by Shishak of Egypt for abandoning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bled him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–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 his idolatry 1 Kgs.13:33-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son Abijah becomes 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oboam sends his wife disguised to Ahijah to inquire of son’s f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th and Sou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–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cked by Shishak of Egypt for abandoning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bled him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for 1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jah – 3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ght Jerobo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 with God’s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–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oboam sends his wife disguised to Ahijah to inquire of son’s f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ijah sees through her de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s of God’s disappointment in Jerobo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ster is co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th and Sou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–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jah 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ied in City of 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igned 41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a good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troyed idols in 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tified c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–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ijah died in Jeroboam’s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 of rule in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2 more years for total of 22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da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years – e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k down by Baas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rth and Sou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–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obo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j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ssive Ethiopian inv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a prayed for God’s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gave a great vi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–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da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asha – 24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evil ru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13:02:05Z</dcterms:created>
  <dc:creator>Terry W. Benton</dc:creator>
  <dc:description/>
  <dc:language>en-US</dc:language>
  <cp:lastModifiedBy>Frank D Vines</cp:lastModifiedBy>
  <dcterms:modified xsi:type="dcterms:W3CDTF">2005-07-05T14:02:37Z</dcterms:modified>
  <cp:revision>4</cp:revision>
  <dc:subject/>
  <dc:title>The Divided Kingdom</dc:title>
</cp:coreProperties>
</file>